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561-3885-4D66-A191-5EF2DFA9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A3F-3125-4846-BB6C-8739C93C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C25-19AC-4B25-8B3E-B2CF26CA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162-EA5C-4937-8330-0A55F72B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8F25-5035-46C6-A63C-60F804B2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1247-7998-4E67-BDAE-7F85A4E1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A31C-EDE9-41B1-91F6-C691C633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C8E7-DB2A-4D37-A342-B8F73B45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1BDD-74D5-4B24-ACB2-6976540B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2BE8-3100-41C3-A5C1-8B58F700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43D8-44B4-46B1-BAD1-6B59236B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FE6-C437-4D7A-BCCF-C2AAE42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999F-84D0-46A1-90F2-83D6EE24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F80E-8AAF-4764-81F5-9CB1A4F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89E1-65F3-4A28-B51D-36575678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4050-B2CE-45CA-9897-4AA42061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CBBB-F054-49E4-9827-21479860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AAC4-F2A7-443F-B7B7-C2D3F7D2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1BC93-F1FD-4998-8A54-A073E2A6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24F7-5A47-48D4-85B3-AA4FA0B0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5C26E-C247-48FD-9979-0EFB9F19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E583-AD4E-43F6-8A17-419E6831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CBF-F995-414E-8094-38C5C046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3C94-65F2-48DB-8D6A-0613E0A7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D1C8-2367-4016-8B29-98A981D7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3CB9-A4B8-4D7A-80E2-F746A9BB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58BE-B54E-4282-A366-7C9993A0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39331-3ED4-4205-B892-D0A3651C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422E7-9673-48F2-ADC8-A612559A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8FA4-A014-4C71-91D0-D6B05E00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87F93-390D-4DCD-9E36-24DF7C03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15B8-A0CF-4A39-B56C-DC438CCA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BF8A0-4D6A-4FD4-998C-90D00701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AC8-4813-46DA-86CC-6041BB40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6543-6562-498F-98EC-C9214FDA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8A46-755E-4239-A46A-0ABA4DFE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2C89F-9C1B-4B55-88C3-52F320EE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96909-AE47-497D-A5A5-78DE7312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DEF69-0A9F-4AF4-9E9A-2330E87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9B6FB-D01A-4E77-AC50-7A751ADF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5091-9806-4FE1-A81D-7E8CB468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89D5-7EB4-4E6A-AAC7-D7D8762B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50621-B4F5-42C4-B371-B132C105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3C3E6-0D24-4E21-9A60-EB893BE8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E0E-ECFB-42CF-B682-740B9661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65A5-0CF7-4208-ABFF-EBEBDA96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C37B7-4455-4FAE-96C5-B59E6D91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F52C1-CF91-42E5-A5F5-71DA0FF4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3B52D-FB0D-40A4-A330-8BE65875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629F4-B0FC-479E-AADB-9880EEFE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B2715-23F7-4BD8-873A-7B516150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6E559-A6C5-430B-B0F8-32266FE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A190A-E0A3-4EAC-9316-442C5BAB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3982D-ED34-47C2-977D-60023A57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A64C1-4503-4025-8BA5-F8B54081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F11-31B8-44E3-B92B-8F47A82A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E6734-2D56-4CB6-B7A9-39EDD45C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AD7A1-6FDD-4BDD-9169-543769FB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DB792-C9B4-4FAB-9ADF-55827E6D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D3DE3-E06F-4F17-B635-85B6AB62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A8B61-C080-4D34-A937-1C25891A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05E68-EF12-48F1-8AE9-07256DDF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231F3-8345-4CBF-BADC-5F3FC237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17B5D-0FBE-4391-A04D-AF9B9BC5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F03AB-91F9-4A6F-8936-0E119964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5005B-8CA1-4757-827B-9D198B7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54D-D7C8-4EE3-9168-46C7E792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49E85-64C1-4FB3-8B34-7B752A81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498D9-4D03-4D8B-A947-7C388605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D2408-CEF7-40E5-893B-6385094E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6189F-C69D-4778-8833-365D8688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42210-58B6-4350-AA99-5D6B1C65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4FF79-A756-4D6C-9D6F-665476C5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B5ACA-8473-4CF3-BFDF-D853D1FA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1FBA-637E-434B-A657-B449DAC8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75DAC-B10A-4B79-B8A3-FF1EACDB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02754-4201-48FD-A858-69AD7A7D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EE6-9D00-4D4D-BCE5-5533ED7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55034-1102-4507-AC99-EE2B4BCD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2FD24-4D73-4CD2-BDD3-FC1BB66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27794-FEFE-4232-96C1-72648DB3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6F57E-169B-4EEF-9970-66A122D2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9323C-D5BD-46DF-A2F9-6AEC3015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40FBE-546F-46FB-B9DA-8AE2C2AC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61A75-04D8-42E6-8DB9-DAD9B542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CB22C-D64D-46D8-88EF-38EF7FFB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76478-5375-4607-B60F-28B299F5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EAB87-8971-474C-A0DA-A5EBBF98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4B8-B504-4966-A68D-A14B0002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28C0C-AAE2-4254-B045-194AC53E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8AB04-7968-4E0C-8DBF-36C0B31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1C7D4-4D62-4704-9FD7-A369EDA0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2BB70-8E6E-4BA5-8EA1-31A04D13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2C639-A000-48FF-91B9-EC7D2127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C39A8-54E3-4FED-A5FB-9A048D67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43B31-DA3C-4A4E-BEE9-D7E46499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8406-050B-4F4B-81AB-722BC000E36C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EECA-6FB0-4DE3-9C90-489E1A6BAA54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9E1B-CDC5-4F31-B395-FA3A6667D653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CE3F-86AA-430E-9288-D51DBAC80F87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5F9E-BA7B-4270-AEC5-E47CA9EFBE45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7169-D614-4872-870D-7EE43529D6E1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9A3C-ED0D-480E-A24D-B7D1D1F13413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03C3-92A2-4D96-BE02-1EF399D848DD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POWER GRID CONTROL SYSTEM USING GSM MODEM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Block Diagram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Power supply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Advantages: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ystem can be monitored and controlled from any whe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obile number can be changed at any tim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rid status will not be lost in power failure condi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3520" y="914040"/>
            <a:ext cx="8153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copes for Advancemen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system is developed for mobile reporting application only. It also can be interfaced to computer system to record and process data bas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pplication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rocess Industries, Power Gri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ence by this project we can control power grid using wireless communication system i.e., Global system for mobile communications mode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33160" y="99036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owadays there are various electronic equipment available for remote operation of grid control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owever, the main disadvantage of these systems is that they can be operated only from short ranges and also less reli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990360"/>
            <a:ext cx="81532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o overcome the above drawbacks, we are using one of the wireless communication technique i.e., GSM (Global System for Mobile communications)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is a digital cellular communications system which has rapidly gained acceptance and market share worldwid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development of GSM is the first step towards a true personal communication system that will allow us to communication anywhere, anytime and with anyone. 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GSM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is vastly used because of its simplicity in both transmitter and receiver design, can operate at 900 or 1800MHZ band, faster , more reliable and globally network 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is designed for seven power grid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8051 Microcontroller is the heart of the projec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GSM modem is interfaced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modem receives the messages from control mobile and sends as input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880" y="685800"/>
            <a:ext cx="83059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microcontroller verify for authentication of the number and, if the number is authorized, grid control will be taken pla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d EEPROM is interfaced to this controller to save the grid position at every instan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grid position information will not be deleted even in power failure condition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520" y="837720"/>
            <a:ext cx="81532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X4 keypad is interfaced to change the mobile number at any tim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6X2 LCD is interfaced to display user-required inform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n this project TRAIC is used as load controller (as a switch), MOC3021 used as a Triac driver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088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network operators have roaming facilities, user can often continue to use there mobile phones when they travel to other countries etc…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uses regulated 5v, 750mA power suppl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1404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7805 and 7812 three terminal voltage regulators are used for voltage regul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ridge type full wave rectifier is used to rectify the ac output of secondary of 230/12v step down transform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5:49:06Z</dcterms:created>
  <dc:creator/>
  <dc:description>Electrical Projects</dc:description>
  <dc:language>en-US</dc:language>
  <cp:lastModifiedBy>mahesh</cp:lastModifiedBy>
  <dcterms:modified xsi:type="dcterms:W3CDTF">2008-12-29T09:15:19Z</dcterms:modified>
  <cp:revision>0</cp:revision>
  <dc:subject>Electrical Projects</dc:subject>
  <dc:title>EEE IEEE Projects</dc:title>
</cp:coreProperties>
</file>